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CC47-BC81-4102-BB48-72DE13FBAE8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5695-9B96-4FDA-8933-98E0DDFD07F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4EEF-E47B-4D31-B0AA-EC602000BEF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BC1C-89E7-402E-9A9A-C2DEC24DB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C0F9-9A36-45FA-BF7A-D0F18979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B155-798A-435B-88E4-E95B4C8EA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AC50-F942-4904-8143-B6C5142B7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5189-7A08-44D7-86A4-B260490E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15E2-3B5A-4278-A157-3444048D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C63C-5EA9-49CD-A4DE-50D31A87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364F-3E9B-40DE-8468-C3608DB9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600E-376D-4829-A138-FC0A3110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F4EA-CE3D-4083-82D8-7A872FE6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FECD-0A1B-49F2-99B1-CCFD4CFB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F1DE-B0F7-4893-967E-EA98FC50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4600-4EF6-4771-A372-0FEEF0F3B38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77708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aily Routine Assessment-Monda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58560" y="1700280"/>
            <a:ext cx="651348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6" descr="me1_t4_u5_2_1-1"/>
          <p:cNvPicPr/>
          <p:nvPr/>
        </p:nvPicPr>
        <p:blipFill>
          <a:blip r:embed="rId1"/>
          <a:stretch/>
        </p:blipFill>
        <p:spPr>
          <a:xfrm>
            <a:off x="2627280" y="1700280"/>
            <a:ext cx="37339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000000"/>
                </a:solidFill>
                <a:uFillTx/>
                <a:latin typeface="Arial"/>
              </a:rPr>
              <a:t>What to study for </a:t>
            </a:r>
            <a:r>
              <a:rPr b="1" lang="es-ES" sz="4800" spc="-1" strike="noStrike" u="sng">
                <a:solidFill>
                  <a:srgbClr val="000000"/>
                </a:solidFill>
                <a:uFillTx/>
                <a:latin typeface="Arial"/>
              </a:rPr>
              <a:t>Written Assessment </a:t>
            </a:r>
            <a:r>
              <a:rPr b="1" lang="es-ES" sz="4400" spc="-1" strike="noStrike" u="sng">
                <a:solidFill>
                  <a:srgbClr val="000000"/>
                </a:solidFill>
                <a:uFillTx/>
                <a:latin typeface="Arial"/>
              </a:rPr>
              <a:t>Mon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You must write a text about yourself describing your daily rout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You Must 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8 reflexive verbs or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quencing words: normalmente, primero, POR LA M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Ñ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NA, POR LA TARDE etc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ay at what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84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so give your opinion: me gusta ver la t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nd use some verbs that are NOT reflexive like…voy a…, desayuno, ceno, veo la tel, hago mis deberes. (BE CAREFUL NOT TO MAKE THESE VERBS REFLEXIVE)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E MODEL -YOU MUST WRITE LIKE THIS TO GET -4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sample of a high leve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i rutina diaria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y Marcos. Vivo en Taipei y voy a la escuela europea en Taipei (TES). Aquí es mi rutina diaria.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or la mañan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 despierto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 las se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ueg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 levanto a las seis y cuarto.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imero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 ducho 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espué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 visto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ápidamen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ormalmen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ayuno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nto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 lavo los dientes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pué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 peino y voy al instituto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 las siete y media de la mañ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r la tar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uelvo a casa.  Primero hago mis deberes…… etc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lude an opinion in your writing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xamples of opin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io levantarme –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 hate to get myself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e gusta hacer los debere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I don’t like to do my ho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 encanta ver la tele, pero no normalmente no puedo.-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 love to watch TV, but usually I ca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 gusta acostarme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I like to go to 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¡Nunca descanso!-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 never re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¡Qué horario!-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a schedu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 STUDY FOR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eaking Assess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Monda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HAVE TO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your friend what they do in the mo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¿Qué haces por la maña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at what tim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f they don’t tell yo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¿A qué ho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what they do in the aftern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¿Qué haces por la tar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at what time if they don’t give you a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¿A qué ho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Answer on Speaking Assessm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ble to tell them 4 things you do in the morning.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 CAREFUL TO KNOW WHICH VERBS ARE REFLEXIVE AND WHICH ARE NOT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N’T MIX THEM UP!                          M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anto. –reflexive     Ceno- NOT reflex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on’t say levanto!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(don’t say me ceno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ble to tell them at what time you do these th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 MUST USE SEQUENCING WORDS FOR THE HIGHEST LE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e is a sample of how to speak for the highest leve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- Hola Santiago. ¿Qué haces por la maña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e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 despierto a las seis.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ueg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 levan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las seis y med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rmalmen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syuno 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espué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 lavo los dientes. Entonces voy al institu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- ¿A qué hora vas al institu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- Voy al instituto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 las siete y cuar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-¿Qué haces por la tar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- Primero…(say your routine in the eve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¡Buena suert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3T14:28:40Z</dcterms:created>
  <dc:creator>elisenda.rasero</dc:creator>
  <dc:description/>
  <dc:language>en-US</dc:language>
  <cp:lastModifiedBy>Mac</cp:lastModifiedBy>
  <dcterms:modified xsi:type="dcterms:W3CDTF">2013-11-09T10:40:46Z</dcterms:modified>
  <cp:revision>33</cp:revision>
  <dc:subject/>
  <dc:title>  Bienvenidos a clase de Español   ¡BUENOS DÍAS! </dc:title>
</cp:coreProperties>
</file>